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B3E-C797-4776-8031-97711D77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F89-9793-49A6-A1DE-2283AD2C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637F0-FFFB-4C47-A341-54F9F6AF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6A8EF-33BC-45DD-A8CC-3B217BCF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92D70-51AC-4EB4-BF46-01FD6384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D8D09-6E4F-4127-9C97-91806D47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99F36-AC2A-4DB1-A9A1-4463CBF9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DF421-A0E8-49C9-8318-9CE1D13D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25D73-AC74-4115-9110-E9B915C4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B9ED1-2E87-4324-B7A7-0703528B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47694-C8B4-45FF-ABCF-787D7420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010BA-FAE3-4DF7-93C7-73A74B55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2DC-8673-4FBC-857D-A0CF0A26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75F76-221F-47A2-B7B0-0C3B8542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CE8E6-E81A-477B-8786-5297225E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85E44-EE57-4E36-AB2D-77E64635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47A5F-17E6-46C3-AB4B-71D11EAB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0987A-6C25-419A-BAA2-7E4346BD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2B876-12CB-4AF3-A9C3-C4DFCBB6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62EBF-E336-4D54-B45F-4978ADD8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4328D-6A82-4969-97C3-816D1038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4E6FD-87D5-496F-A930-49E42386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C4CC0-F801-478F-AD22-1A59A6F4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59F-79C4-45CB-9482-2DF8F9D2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133C5-5B4E-41A2-8207-8915B5F7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6DDC3-61CD-42CB-A6E7-09273C55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9ACAD-30C6-4A6B-9910-E0C1284A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7C8EA-1E5F-4A58-951B-D9F59EC7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0F1E6-E14A-448B-A341-4225C753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AB8EE-DA97-42BE-A82E-0CC313F5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9FAA0-5349-44C8-B2C8-BA4C2BC3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58122-9A04-44FA-9ED3-4F18B495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4A5D0-4BCA-44E8-94EF-1A8CF43D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A9B43-91DC-49DF-B3F6-391F88D8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8DF1-713E-4172-9E83-F156F95C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1BD82-DE84-4729-BBCD-044F931E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4B9FC-4453-483D-AAAE-1F1C6F07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3FEAB-E7B7-4B24-A130-0CED9A4D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29F3E-1C92-471C-BEA7-8D5D181C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B00E7-F060-4D92-91F0-ABCDEFE2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518D7-2763-4B62-8B50-9EF7AD9F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D7C66-4D3B-459B-9163-F3FF0462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DC739-64A1-4C51-888E-59ADF25A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18E69-8204-42C0-98F5-131E0B42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AE750-33CC-4E49-86B1-A8F1029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FFEE-CD3F-4D0D-96E4-CD55678A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EEBF2-1FBC-45DE-BCE4-34E79AC4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AA531-D7A3-4D8F-940C-4A292B97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F1038-DE8F-499D-8DC1-6C22526D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82B3A-1D63-4250-92AD-BE2BD284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F94BE-5E52-4F5E-9252-B7F40EE1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E9815-ED67-4551-86CF-34FE8967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2F873-CCAC-481A-B004-69383B7B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F6A8C-83B6-452D-9853-CEBD6FA2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59565-209F-48C6-8148-E1C30F65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2A457-DFCF-454B-AD7C-3D14DC7F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3343-7244-4B63-9B82-A612D018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4FA2C-2D64-4137-A46D-CE55A5C8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AB1B6-071D-455C-A8EF-EB827B0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8738F-984B-45B4-8D10-9C5B25E8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F8633-C4CB-444E-8BC7-6FA4890F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C118F-A8A8-4C4B-A655-4A1731D3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40951-0299-4690-B321-58D00A28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24E5A-DCFD-402F-802D-9A64A41D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880FF-4705-49B4-B7A0-3C9A68B6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5C199-EC57-4881-AACB-E53168DE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B20FC-2BF7-45B5-B867-430C7968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3381-E36B-4BD8-899D-C831CEA3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21F9A-FE2F-41E0-A2D5-0FF872C9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3C065-2D24-4311-A449-C855D3F3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C60B9-A6D8-4427-B9DA-9B7C53A3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57ED8-C8A9-4C6A-8210-818DF222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8EEDA-9BEF-4C72-A64C-9DE1F4D7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24F53-C23D-4F5D-ADB1-6A2F5CB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BE148-35DF-4A71-A785-F9830C65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6D07F-EA43-4E90-AAB2-452EF947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7884C-E9B9-4563-8232-CEAB0350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BCFB5-E630-40E4-B624-50900D27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70A2-885C-406C-A7AD-F8C10C16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41AB7-BA96-47C0-B3DF-58171FEC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C3D585-CE07-4C19-B686-6F703809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4C76B-DE35-446D-99E8-8976F36E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BD987-1424-4F79-9099-ED8A53C6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2D191-F3D2-4EC4-8A04-8A4EE8F3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C8966-B7FB-42C4-8922-CF97B1F6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01965-490B-471B-905C-0013A7D8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D0C66-BF14-4D7A-BA43-00EB1952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3D7D0-DC07-4371-9346-E02F83ED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7AEA8-C157-49BC-9D70-639B3F2B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0BEE-2EB4-4017-B439-DA51274A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F3730-50DC-43D8-86AA-9C51BF11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FFD50-73A9-41E2-9B18-800F4F2C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5F81B-D052-4114-91C5-D19C2D8D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2D0E9-1922-4B6B-9058-123523DD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82CA7-EF87-4ABB-BF80-86709E8E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B3FF18-E188-4692-8CBB-A9489D60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364DB-5AAB-47A6-8561-55199C19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A141F-4C2D-400F-91BA-8CF17E1D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AE4C8-577A-4D32-AE68-415136A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C4E95-8F74-4E55-B477-F43D75FE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2AAB-1608-43B6-A700-57278D73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EC71A-6857-4679-B48B-E11A84F0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AF2DF-CB43-4019-99CD-52014480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28198-22F0-4722-B084-87074026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275CA-EF2D-48F9-A1D2-1CA302FA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0B043-E25B-4A50-97A9-7F39DF70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22C1A-5241-4975-BC5E-51A138D5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60C3D-561A-403E-A3F4-3025B683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1DBFD-067B-47FA-A165-FCF02C55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D32D7-066C-43A2-ACCB-905580D8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ABB738-4D59-4076-827F-314CD1D6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DE5-B9B4-4891-959F-0714A933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19DE-4545-4B00-B9FA-E3EB73B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E267AD-E9C1-444B-A66F-999E655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84911-CE74-4914-9527-EEE879F8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DF152-F0A0-4E56-923E-B4A677E7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A9940-3504-4BAB-8CDF-33BF5437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C71E1-3930-49DD-BC6F-E9A29DF1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F7D635-A1F9-4512-B433-ECB95FBB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83EFC-B7DA-4DF2-AFC9-5ED0B0CB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390C9B-D385-4B2E-B1AD-39F8B3E8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D4AF3-FE9B-4941-A620-69819894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D57995-21AC-4840-BA21-FA984C75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A83B-62E6-4062-8303-6277018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B978D-709C-439D-81A5-36E258AD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90A8B8-BE00-48E8-8DD8-4E1B5B15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0D428-A341-4FC2-98F7-306C621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40948-3668-41FB-9779-DCE0BAA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C87822-FD66-4A4E-A830-89A17519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12AF7-06B1-489A-B1B0-53DDB354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5F78A-92FD-49F5-8D3A-53CF9A32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4CD22-B4B5-4F79-A8DE-A827BD93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E1965-5672-47FA-9F31-B96B4FC6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05CB15-0D6A-489A-A2CF-ADE92272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2AFA-3344-49FC-B68D-80D56A08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C066A-B9EB-4E89-A9E5-BEB7DDA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662C3-5E91-47F4-85BD-D0BA7C07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B06C0-24A8-4D4C-A652-483B2F95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F9A7F-B313-41E4-B600-4AF809C2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7EBF22-C7CD-4337-B263-6BBD2EB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FF98D7-8107-44CD-9FBF-6E0E2F56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D3A8F9-B0DC-4DE3-B46B-FFF791A1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EE6F4-799E-4490-8B2B-298DCA4C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55233-D4D1-4A3A-94AA-1C2BAAF6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9043B1-C04A-447D-B2E8-2FA9D552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5138-1EDF-43E1-9E17-7C3CB76A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396CC0-1844-48CC-8B80-EDEA29B9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DD30F2-160B-435C-9F23-2578FE20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2ED44F-B427-4DF8-BBA4-F00F918A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56800-D737-40AF-ABC2-6BDD7766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9EAE5-7540-42AF-AD8B-53E8D55E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EC72D9-B203-4EC5-8316-B14DFF5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78EC0A-87B2-465B-81A9-EB90EBF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5926DE-FFA5-413A-B8D2-FB6C82F4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79677-3A5E-4886-A28F-320E9CF2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FDCD03-CA3B-4E96-A522-15DB4253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2549-8910-4A21-8C55-8558721B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5A7A6A-0A40-4390-A56F-B009E530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C97F09-D66D-4202-8FAD-C94FC114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8568AE-1A9C-4A92-993A-8600E961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0C3AF4-97B2-431D-8181-EDCD889D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84C2C8-2A6F-430A-8659-4538917B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665791-D141-4AD7-9A01-9966D805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4CE548-AB51-4B7F-99EF-1984392F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94E4CF-334E-48B8-8C20-7BDB0402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4328D4-3C99-4035-A64E-BE0E2112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57AA5A-CE63-4264-9525-D0A95E3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0B7C-7509-40EF-9BB9-BD165CA9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4C4FD8-6E61-413F-8022-EF0B76CD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99522-8D03-4041-954A-E9B80EB5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6D04CA-8C89-43B0-9AC6-0E540F7E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795D-46A4-45FF-A383-C7071931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A768-E7BA-4A66-8589-D7E81B23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99CF-F933-40B6-82DC-2B966CBF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475E-604F-409B-8AE4-05E69C12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80A-439D-4B73-8E9F-AA89C27A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EF17-FF1C-45C4-A30B-0D2AB5E1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B448-CD64-49C7-BDCB-6059C2F1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D7314-B512-4507-8F82-00A7A8A3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654F-1917-4935-977A-3B371445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154E-1868-48F4-A305-C5C704A3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8EC6-CEE4-43FB-9C13-B88C023A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74E3-C578-496A-A3CE-BB7042F7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3C18-DF53-4480-B546-52926764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13769-A59A-4712-B990-FB8F566A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4BBA-051F-47B3-AEC8-711016FD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1F6-FC08-473C-B796-916D1DD8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80D2-F5E8-4834-8543-A512410E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578A3-D61A-4159-9824-D94C51D4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D72B-E1CB-48B8-99DE-66D51A85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A815-5EC9-4365-802D-90CBC626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5C2B-687A-451D-8998-692EEB87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C85BD-0534-41F7-BF63-573308DD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E076-2C31-4C1F-8648-538D85DD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D9B8F-277C-46D4-9C76-332B1A73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2809F-B7D4-47C4-B09F-C9261CE7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7D9B6-E19D-422C-A801-2DFFF4DB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E88-BBA6-4962-828A-2F3000AF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B34BA-75C9-4DA7-A4AB-3B8FADF4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D297-E8AF-4D14-BCEA-8D9464A7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3C8FE-504D-4219-8446-928999B4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72C21-BF80-4CA1-9AF1-5F1C046E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99D6B-B2F3-4FB5-9E93-6AFEA425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7D42A-6DA1-4425-89EB-4089C34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36899-CDA4-4809-A70A-D2D8D405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854D3-0A75-4B0E-B7C3-9A3FBD4F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607C8-D1D1-4B6A-B241-D6100141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A1D62-9A9A-4B8E-A667-73950334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60A-DF0C-4DE9-958C-3FAE8E73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875B-4640-434C-8893-FB38358E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6456A-299A-4EAA-BA17-C1418087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8A76D-3944-43B9-B3E5-23F8972F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DB997-6AD9-4B97-8FEA-907A187E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3710-0B5E-47AB-BEA3-5D8DDC0A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59129-7D50-4E25-B53F-822EBFF9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BDBC5-8226-48BB-ACF3-F6A78651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32E3C-4776-493F-8B72-0E814F1D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D936-66D5-41F5-869F-9F80CCE4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8FB72-4315-42B0-9C80-879B52FC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BBA-FBDA-4971-885E-9A7DEF74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EDEA8-4E12-4107-A275-C5885E41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C93E9-2FAC-4F1F-BA0F-63A4D5C8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BDB3A-B93E-4C9C-BD51-B63221A7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5B413-9B9D-40D1-AF46-6D316E0D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78A88-DF1A-4331-A84E-394CD87F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AB01B-C133-46E9-B968-B413F9E1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31D37-D914-4699-9568-3C654F7B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6705D-E125-48E9-BB76-29EAAB5F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3AAEB-030E-44BF-817B-B3A14CE2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7B445-499C-4775-B229-AE4C2924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81D-04B8-435B-B5AB-AE80360A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5AF73-3024-4A62-A736-75CC7CD7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DE4C8-919A-44D4-B3B1-23AE918E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83585-E5D4-4882-8EA9-A975CB29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D8DA9-7EB0-4A11-A685-26458542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2F0D1-F013-4894-8896-64D27ECE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54F1E-E5D4-4254-A164-A399E737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35F6C-C342-4F43-B715-38CB3089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46EC9-F4DD-485B-B34D-7C452F13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23F9-2EA0-44B6-BF5C-FF3BDE9B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D6F49-5FA4-42D0-AF85-81875DCA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C1B-08E5-40EF-97B0-854A1FB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BC222-5C98-437A-9D11-D5751DFA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A26AC-53A4-408C-A466-C45F8BE0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50D29-3126-490E-B900-70F3B8FE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A0749-1F16-458E-AD97-B983FDB1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0C9E4-061E-4EEA-8799-84C2D9A0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5D3EF-28F6-42BC-8901-E87D3556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A5E6D-E805-4E26-B713-DE49BF47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7635F-4DF0-4C15-A085-AA35BDF8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2B86D-0FA9-4B46-A08F-B97DA567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FE294-AA84-4F33-9299-A9E344D0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52C9-3279-4E68-9855-4A10D862C9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3550-3E43-4511-9166-960B31693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DB43-AB8F-4D87-9BFE-2DE9F1579D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1447-E334-4F05-BD64-2D6BDDEF54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7451-8DE4-46BA-8EDC-CE12F8BE86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E819-82C8-4542-AE3F-F05EA4B630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AB17-1BB2-4678-B2A3-422DD75C67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07BC-DCF1-429E-BA3F-A8493B16E8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E768-2BDD-469C-B09B-CA344F6D9D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CF17-0304-4249-A936-6EB60C1E81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45C9-BE68-4E21-AFD9-9A798C0EEA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0E80-BFAB-47CC-81E6-BFC64FE788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BD3A-7629-48EE-80A7-EAB4F1396F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8262-0DBB-43A5-82C5-B480B3B349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C0F5-FEAD-42E5-A526-8CD872A51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036A-A36E-47B1-82B9-CB32AA7AB2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D14C-7291-4A84-8DE7-2B6B14884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A440-5BBD-4870-880F-6B93CAC6B8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BC4D-DE42-4FCC-90FE-BFC7094502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2C82-07FA-4534-91B6-1ECC9A63BF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2640-B7BC-4431-8ECA-70770BE1B8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4368-15DC-4C0A-878E-4429484D47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8CBA-0D2E-4789-A405-02CDD76A6C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88E1-00DB-4595-A613-59A046F4E9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8DDC-1CBF-4DF1-8D30-4DA3C2AB65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A6EA-6FF2-466D-BE6D-8C3676C222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2952-356A-4057-B67D-9375D791D1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C90B-C81A-4BC7-8558-645C872C87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0012-BC39-4A7D-A8B8-202D1F7532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D3A5-6211-49CA-807F-EBF6162AA3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21F9-7D5B-41A3-95AB-C9D67E835B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0738-1CBC-49FA-8452-CE828A91AA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5C06-9483-4406-AE60-26DC59189C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C713-75CA-42CF-AE28-06A1E79CB0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7D75-6555-4448-9FD7-023BF8A446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7534-B98C-4FDA-A15A-3475A0F214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E0D1-D6BC-469D-8898-52887D91CA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9D6A-238C-4B43-964F-CCAFAD0EF3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6C80-2344-4E54-86E8-401CBBA75D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FD2D-DD25-4BA3-9672-B82845D36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43160" y="3009960"/>
            <a:ext cx="6457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9633" descr=""/>
          <p:cNvPicPr/>
          <p:nvPr/>
        </p:nvPicPr>
        <p:blipFill>
          <a:blip r:embed="rId1"/>
          <a:stretch/>
        </p:blipFill>
        <p:spPr>
          <a:xfrm>
            <a:off x="171360" y="1233360"/>
            <a:ext cx="88012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8609" descr=""/>
          <p:cNvPicPr/>
          <p:nvPr/>
        </p:nvPicPr>
        <p:blipFill>
          <a:blip r:embed="rId1"/>
          <a:stretch/>
        </p:blipFill>
        <p:spPr>
          <a:xfrm>
            <a:off x="1052640" y="2114640"/>
            <a:ext cx="7038720" cy="2628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258920" y="4121280"/>
            <a:ext cx="417672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8611" descr=""/>
          <p:cNvPicPr/>
          <p:nvPr/>
        </p:nvPicPr>
        <p:blipFill>
          <a:blip r:embed="rId3"/>
          <a:stretch/>
        </p:blipFill>
        <p:spPr>
          <a:xfrm>
            <a:off x="1190520" y="2060640"/>
            <a:ext cx="68961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1542960"/>
            <a:ext cx="8544240" cy="3772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124000" y="48117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38280" y="847800"/>
            <a:ext cx="7867440" cy="5676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1835280" y="2060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5076720" y="20750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2268360" y="4451400"/>
            <a:ext cx="576360" cy="993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1835280" y="5573880"/>
            <a:ext cx="5760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95200" y="797040"/>
            <a:ext cx="8553600" cy="58006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317600" y="3673440"/>
            <a:ext cx="781200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781200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971640" y="4927680"/>
            <a:ext cx="781200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826920" y="5502240"/>
            <a:ext cx="781236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755640" y="6093000"/>
            <a:ext cx="781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642960" y="1247760"/>
            <a:ext cx="7858080" cy="4362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71640" y="2463840"/>
            <a:ext cx="770400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900000" y="3083040"/>
            <a:ext cx="770436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826920" y="3701880"/>
            <a:ext cx="770436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826920" y="4249800"/>
            <a:ext cx="77043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755640" y="4883040"/>
            <a:ext cx="7704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647640" y="1866960"/>
            <a:ext cx="7848720" cy="31240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76327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042920" y="3730680"/>
            <a:ext cx="7632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971640" y="4351320"/>
            <a:ext cx="7632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847800" y="71280"/>
            <a:ext cx="6156360" cy="65977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3629160" y="1052640"/>
            <a:ext cx="17064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328680" y="1386000"/>
            <a:ext cx="8486640" cy="4086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6227640" y="4897440"/>
            <a:ext cx="1152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1" descr=""/>
          <p:cNvPicPr/>
          <p:nvPr/>
        </p:nvPicPr>
        <p:blipFill>
          <a:blip r:embed="rId1"/>
          <a:stretch/>
        </p:blipFill>
        <p:spPr>
          <a:xfrm>
            <a:off x="600120" y="1147680"/>
            <a:ext cx="7943760" cy="4562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5867280" y="5157720"/>
            <a:ext cx="136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35:4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